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3128-F394-43C1-82BF-27C0E825C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0720-FCF8-4D51-BB30-D72C4D84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7910-E0EB-41CF-BB62-393683674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492D-8306-430F-8841-F2ED21BA9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7A24-C6DB-4F62-B886-EAB7C667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920D-C784-4435-8BFD-6982441F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99AB-245F-4D59-93BC-BF477FFF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5BBF-B0A9-4FA6-9FE6-35E6EF66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56EC-9AED-45F7-9F96-0C2C0A80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7AC8-2C23-495D-899B-5DC81536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2D77-FD91-4368-9D30-3611A577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9294-3A13-4A0C-A93B-8BDA55E6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65B4-6C30-44C0-AD6D-08A18EB269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95120" y="2185920"/>
            <a:ext cx="875376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853740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يوسف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سم يوسف عليه السلام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معظم السورة تتحدث عن قصت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يوسف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11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179280" y="3448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يوسف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هو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عقيدة التوحي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>
            <a:off x="8820000" y="1662120"/>
            <a:ext cx="0" cy="1282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قصة يوسف عليه ال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أهداف وغايات القصص القرآن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5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5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3"/>
          <a:stretch/>
        </p:blipFill>
        <p:spPr>
          <a:xfrm>
            <a:off x="1139760" y="1438200"/>
            <a:ext cx="766944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0T05:11:03Z</dcterms:modified>
  <cp:revision>1802</cp:revision>
  <dc:subject/>
  <dc:title>عرض تقديمي في PowerPoint</dc:title>
</cp:coreProperties>
</file>